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A18B5D-D503-44EA-9EB0-D44C84CD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27A3C3-F993-49A3-8950-AEF9894C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51A3D0-ADB4-434E-9AF7-B7D4F5DC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499948-34DC-4F9A-97AE-CCE93944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9E8CBC-1985-4525-B15A-557A6E91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347DD5-C816-4F69-853B-84028F8B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FA9ADB-1490-4E42-9CDD-0C7EF8CE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E6BE02-7904-4EB9-8007-0AD18E50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DCAE20-7E23-45EB-AC39-EC9B5D25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154C6E-5076-4C9D-B048-A2BE7031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47A-0EB0-43F1-95FA-1998D37A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35F-7B0E-4094-870D-551A6E5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FA6-A9DE-4011-9751-DF850D81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CE1-47F8-412A-AB0A-1A8DD2A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F886-73DF-4FA8-8AEC-0C579162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46B-3C01-445E-A6FD-CA772EE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1CA5-2A6C-4A88-A78B-FA0AEB25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81E9-D634-4A6E-BA78-CB334CB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6C9-3DFA-427E-B73D-F70547D3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125-8179-4B82-9424-57ED78A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9E0-53F1-4A52-A3C5-0B9F4A6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4D5-B621-4D89-B3EE-0E37065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506-0BE2-4CFC-9B24-3AD8C0E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0CE-172F-4781-B096-38245335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1F9E-064F-4A31-99AC-65CA6CBF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510-2CC8-480E-9796-C1D0BDDB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563-4F33-413C-9DFA-6A54CC21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C01-7799-4A19-BDAD-928E937A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4EB-02CA-4777-9BCC-EE584D12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3E7-AF8D-4F7C-BD16-FB5DCF0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013-BCB0-4A16-8F0B-89ED258F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8EC-07A5-44BA-8DE5-9659A69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726-03B1-4045-9CC5-253BB70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A20-3F85-41AB-B127-34FFB96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ata Retreat® is a registered service mark of CESA 7, W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89F7-65D0-4602-BE86-83D7F3278C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EDD-98BF-4A2A-A684-162B4A4141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G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forma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thering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tai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sul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…because everybody needs an assi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629400" y="525780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Berlin Sans FB"/>
              </a:rPr>
              <a:t>Kent I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98C9-A579-449F-B81D-F1713384B1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E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219320" y="3276720"/>
            <a:ext cx="198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MEAPGLCEPerformanceHistorySchool.png"/>
          <p:cNvPicPr/>
          <p:nvPr/>
        </p:nvPicPr>
        <p:blipFill>
          <a:blip r:embed="rId2"/>
          <a:stretch/>
        </p:blipFill>
        <p:spPr>
          <a:xfrm>
            <a:off x="887400" y="109440"/>
            <a:ext cx="7365960" cy="66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1F5-638C-4FE7-ACB7-FB9E8F9B27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S:\Datawarehouse\Thumbnails\MEAPStatePercentCorrectComparisonSchool.png"/>
          <p:cNvPicPr/>
          <p:nvPr/>
        </p:nvPicPr>
        <p:blipFill>
          <a:blip r:embed="rId2"/>
          <a:stretch/>
        </p:blipFill>
        <p:spPr>
          <a:xfrm>
            <a:off x="411120" y="214200"/>
            <a:ext cx="8381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929A-1448-490F-AF27-F9ABB29582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S:\Datawarehouse\Thumbnails\SecondaryProfilebyStudentSchool.png"/>
          <p:cNvPicPr/>
          <p:nvPr/>
        </p:nvPicPr>
        <p:blipFill>
          <a:blip r:embed="rId2"/>
          <a:stretch/>
        </p:blipFill>
        <p:spPr>
          <a:xfrm>
            <a:off x="109440" y="228600"/>
            <a:ext cx="89488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D08-1AB1-40DB-8396-96F8B3A51C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S:\Datawarehouse\Thumbnails\ELPAandMEAPComparisonDistrict.png"/>
          <p:cNvPicPr/>
          <p:nvPr/>
        </p:nvPicPr>
        <p:blipFill>
          <a:blip r:embed="rId2"/>
          <a:stretch/>
        </p:blipFill>
        <p:spPr>
          <a:xfrm>
            <a:off x="380880" y="165240"/>
            <a:ext cx="83822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80E-7306-4383-8909-61AE56CEBF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S:\Datawarehouse\Thumbnails\ELPAPerformanceLevelsMultiGradeSchool.png"/>
          <p:cNvPicPr/>
          <p:nvPr/>
        </p:nvPicPr>
        <p:blipFill>
          <a:blip r:embed="rId2"/>
          <a:stretch/>
        </p:blipFill>
        <p:spPr>
          <a:xfrm>
            <a:off x="387360" y="228600"/>
            <a:ext cx="830592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nt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ne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to clean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 to use por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plan district roll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ign &amp; develop reports with loca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report use for Curriculum, Assessment &amp;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security proto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pass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istrict and building staff use the data to impact student achie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ne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data sets to inclu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ning data err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data in defined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data needs and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changes in local data systems &amp;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user rights &amp; level of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data to impact student achie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Partnership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Roles &amp;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3520" y="1284120"/>
            <a:ext cx="8076960" cy="87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 Leadership: curriculum, technolog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format (time, location, size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schedule plan (LEA trainer-of-trainers, order of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role of district administrators, principals, SI team, etc. to encourage a data driven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k (password reset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Agreements/Confidentiality Forms (OAISD staff als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unt creation/modification spreadshe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data sets (currently available vs. n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WH si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pular Re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ount 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gregated or not (to student level or n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ct, school &amp; classroom access default (Should principals have access to district data?  Should teachers have access to other classroom’s data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33520" y="120816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data without information, but you cannot have information without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niel K. Mo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-360" y="2514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 Mie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n Fink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Mike R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 Boerko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h B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an Brumm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ick Cra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Mayna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Rott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nna Rolff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Netherco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en Ru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6.301.61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80880" y="1143000"/>
            <a:ext cx="87631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GOR Managem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57200" y="2122560"/>
            <a:ext cx="807732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ollecting data is only the first step toward wisdom.  Sharing data is the first step toward community.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Louis Gates, J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Effectiv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 based on a cost recovery model…not for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mplementation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sustainability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ong Track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in place for over 6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with three additional IS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kegon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calm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tawa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4"/>
          <p:cNvSpPr/>
          <p:nvPr/>
        </p:nvSpPr>
        <p:spPr>
          <a:xfrm>
            <a:off x="2666880" y="3672000"/>
            <a:ext cx="15242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4821120" y="3657600"/>
            <a:ext cx="137160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_s1028"/>
          <p:cNvSpPr/>
          <p:nvPr/>
        </p:nvSpPr>
        <p:spPr>
          <a:xfrm>
            <a:off x="3505320" y="1905120"/>
            <a:ext cx="1714320" cy="1714320"/>
          </a:xfrm>
          <a:prstGeom prst="ellipse">
            <a:avLst/>
          </a:prstGeom>
          <a:solidFill>
            <a:srgbClr val="c0504d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_s1030"/>
          <p:cNvSpPr/>
          <p:nvPr/>
        </p:nvSpPr>
        <p:spPr>
          <a:xfrm>
            <a:off x="4049640" y="2897280"/>
            <a:ext cx="1714680" cy="1714320"/>
          </a:xfrm>
          <a:prstGeom prst="ellipse">
            <a:avLst/>
          </a:prstGeom>
          <a:solidFill>
            <a:srgbClr val="0000ff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_s1032"/>
          <p:cNvSpPr/>
          <p:nvPr/>
        </p:nvSpPr>
        <p:spPr>
          <a:xfrm>
            <a:off x="2895480" y="2895480"/>
            <a:ext cx="1714680" cy="1714680"/>
          </a:xfrm>
          <a:prstGeom prst="ellipse">
            <a:avLst/>
          </a:prstGeom>
          <a:solidFill>
            <a:srgbClr val="800080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9"/>
          <p:cNvSpPr txBox="1"/>
          <p:nvPr/>
        </p:nvSpPr>
        <p:spPr>
          <a:xfrm rot="18206400">
            <a:off x="1847160" y="2334240"/>
            <a:ext cx="990360" cy="41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Process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sp>
        <p:nvSpPr>
          <p:cNvPr id="105" name="WordArt 50"/>
          <p:cNvSpPr txBox="1"/>
          <p:nvPr/>
        </p:nvSpPr>
        <p:spPr>
          <a:xfrm rot="2555400">
            <a:off x="4419360" y="1209600"/>
            <a:ext cx="1595160" cy="45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Demographic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sp>
        <p:nvSpPr>
          <p:cNvPr id="106" name="WordArt 51"/>
          <p:cNvSpPr txBox="1"/>
          <p:nvPr/>
        </p:nvSpPr>
        <p:spPr>
          <a:xfrm rot="19842000">
            <a:off x="2895120" y="1133280"/>
            <a:ext cx="1212840" cy="33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Outcome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grpSp>
        <p:nvGrpSpPr>
          <p:cNvPr id="107" name="Group 52"/>
          <p:cNvGrpSpPr/>
          <p:nvPr/>
        </p:nvGrpSpPr>
        <p:grpSpPr>
          <a:xfrm>
            <a:off x="1273320" y="3739320"/>
            <a:ext cx="3561840" cy="2466000"/>
            <a:chOff x="1273320" y="3739320"/>
            <a:chExt cx="3561840" cy="2466000"/>
          </a:xfrm>
        </p:grpSpPr>
        <p:sp>
          <p:nvSpPr>
            <p:cNvPr id="108" name="WordArt 53"/>
            <p:cNvSpPr txBox="1"/>
            <p:nvPr/>
          </p:nvSpPr>
          <p:spPr>
            <a:xfrm rot="10170000">
              <a:off x="3814920" y="5635080"/>
              <a:ext cx="990360" cy="41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Process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09" name="WordArt 54"/>
            <p:cNvSpPr txBox="1"/>
            <p:nvPr/>
          </p:nvSpPr>
          <p:spPr>
            <a:xfrm rot="16119000">
              <a:off x="720000" y="4315680"/>
              <a:ext cx="1595520" cy="45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Demographic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0" name="WordArt 55"/>
            <p:cNvSpPr txBox="1"/>
            <p:nvPr/>
          </p:nvSpPr>
          <p:spPr>
            <a:xfrm rot="11805600">
              <a:off x="2003040" y="5707080"/>
              <a:ext cx="1212840" cy="33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Outcome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</p:grpSp>
      <p:grpSp>
        <p:nvGrpSpPr>
          <p:cNvPr id="111" name="Group 56"/>
          <p:cNvGrpSpPr/>
          <p:nvPr/>
        </p:nvGrpSpPr>
        <p:grpSpPr>
          <a:xfrm>
            <a:off x="5987160" y="2093040"/>
            <a:ext cx="1736280" cy="4184640"/>
            <a:chOff x="5987160" y="2093040"/>
            <a:chExt cx="1736280" cy="4184640"/>
          </a:xfrm>
        </p:grpSpPr>
        <p:sp>
          <p:nvSpPr>
            <p:cNvPr id="112" name="WordArt 57"/>
            <p:cNvSpPr txBox="1"/>
            <p:nvPr/>
          </p:nvSpPr>
          <p:spPr>
            <a:xfrm rot="3056400">
              <a:off x="6104520" y="2400120"/>
              <a:ext cx="990360" cy="41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Process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3" name="WordArt 58"/>
            <p:cNvSpPr txBox="1"/>
            <p:nvPr/>
          </p:nvSpPr>
          <p:spPr>
            <a:xfrm rot="9005400">
              <a:off x="5993640" y="5457600"/>
              <a:ext cx="1595520" cy="45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Demographic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4" name="WordArt 59"/>
            <p:cNvSpPr txBox="1"/>
            <p:nvPr/>
          </p:nvSpPr>
          <p:spPr>
            <a:xfrm rot="4692000">
              <a:off x="6831360" y="3924000"/>
              <a:ext cx="1212840" cy="33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Outcome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5" name="Text Box 60"/>
          <p:cNvSpPr/>
          <p:nvPr/>
        </p:nvSpPr>
        <p:spPr>
          <a:xfrm>
            <a:off x="3909960" y="2376360"/>
            <a:ext cx="104292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1"/>
          <p:cNvSpPr txBox="1"/>
          <p:nvPr/>
        </p:nvSpPr>
        <p:spPr>
          <a:xfrm>
            <a:off x="3429000" y="30481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odoni MT Black"/>
              </a:rPr>
              <a:t>DATA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odoni MT Black"/>
              <a:ea typeface="Bodoni MT Black"/>
            </a:endParaRPr>
          </a:p>
        </p:txBody>
      </p:sp>
      <p:sp>
        <p:nvSpPr>
          <p:cNvPr id="117" name="Freeform 62"/>
          <p:cNvSpPr/>
          <p:nvPr/>
        </p:nvSpPr>
        <p:spPr>
          <a:xfrm>
            <a:off x="2043000" y="1500120"/>
            <a:ext cx="4641840" cy="3700440"/>
          </a:xfrm>
          <a:custGeom>
            <a:avLst/>
            <a:gdLst>
              <a:gd name="textAreaLeft" fmla="*/ 0 w 4641840"/>
              <a:gd name="textAreaRight" fmla="*/ 4642200 w 4641840"/>
              <a:gd name="textAreaTop" fmla="*/ 0 h 3700440"/>
              <a:gd name="textAreaBottom" fmla="*/ 3700440 h 3700440"/>
            </a:gdLst>
            <a:ahLst/>
            <a:rect l="textAreaLeft" t="textAreaTop" r="textAreaRight" b="textAreaBottom"/>
            <a:pathLst>
              <a:path w="2923" h="2331">
                <a:moveTo>
                  <a:pt x="1557" y="7"/>
                </a:moveTo>
                <a:cubicBezTo>
                  <a:pt x="1672" y="14"/>
                  <a:pt x="1775" y="57"/>
                  <a:pt x="1860" y="116"/>
                </a:cubicBezTo>
                <a:cubicBezTo>
                  <a:pt x="1945" y="175"/>
                  <a:pt x="1995" y="227"/>
                  <a:pt x="2066" y="359"/>
                </a:cubicBezTo>
                <a:cubicBezTo>
                  <a:pt x="2137" y="491"/>
                  <a:pt x="2156" y="733"/>
                  <a:pt x="2284" y="910"/>
                </a:cubicBezTo>
                <a:cubicBezTo>
                  <a:pt x="2412" y="1087"/>
                  <a:pt x="2749" y="1229"/>
                  <a:pt x="2836" y="1420"/>
                </a:cubicBezTo>
                <a:cubicBezTo>
                  <a:pt x="2923" y="1611"/>
                  <a:pt x="2905" y="1913"/>
                  <a:pt x="2806" y="2056"/>
                </a:cubicBezTo>
                <a:cubicBezTo>
                  <a:pt x="2707" y="2199"/>
                  <a:pt x="2461" y="2287"/>
                  <a:pt x="2242" y="2275"/>
                </a:cubicBezTo>
                <a:cubicBezTo>
                  <a:pt x="2023" y="2263"/>
                  <a:pt x="1734" y="1977"/>
                  <a:pt x="1490" y="1984"/>
                </a:cubicBezTo>
                <a:cubicBezTo>
                  <a:pt x="1246" y="1991"/>
                  <a:pt x="992" y="2307"/>
                  <a:pt x="777" y="2319"/>
                </a:cubicBezTo>
                <a:cubicBezTo>
                  <a:pt x="562" y="2331"/>
                  <a:pt x="313" y="2193"/>
                  <a:pt x="198" y="2056"/>
                </a:cubicBezTo>
                <a:cubicBezTo>
                  <a:pt x="83" y="1919"/>
                  <a:pt x="0" y="1698"/>
                  <a:pt x="89" y="1498"/>
                </a:cubicBezTo>
                <a:cubicBezTo>
                  <a:pt x="178" y="1298"/>
                  <a:pt x="596" y="1048"/>
                  <a:pt x="732" y="856"/>
                </a:cubicBezTo>
                <a:cubicBezTo>
                  <a:pt x="868" y="664"/>
                  <a:pt x="835" y="476"/>
                  <a:pt x="908" y="346"/>
                </a:cubicBezTo>
                <a:cubicBezTo>
                  <a:pt x="981" y="216"/>
                  <a:pt x="1061" y="131"/>
                  <a:pt x="1169" y="74"/>
                </a:cubicBezTo>
                <a:cubicBezTo>
                  <a:pt x="1277" y="17"/>
                  <a:pt x="1442" y="0"/>
                  <a:pt x="1557" y="7"/>
                </a:cubicBez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04920" y="137160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students lear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How will we know students have learned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How will the school respond when students do not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How will the school respond when students d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68580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0948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Islands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85760" y="3498840"/>
            <a:ext cx="1795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90480" y="2660760"/>
            <a:ext cx="25401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1636560" y="1447920"/>
            <a:ext cx="2710440" cy="1163520"/>
            <a:chOff x="1636560" y="1447920"/>
            <a:chExt cx="2710440" cy="1163520"/>
          </a:xfrm>
        </p:grpSpPr>
        <p:sp>
          <p:nvSpPr>
            <p:cNvPr id="124" name="Rectangle 6"/>
            <p:cNvSpPr/>
            <p:nvPr/>
          </p:nvSpPr>
          <p:spPr>
            <a:xfrm>
              <a:off x="2336760" y="2248200"/>
              <a:ext cx="201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 Rec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3"/>
            <a:stretch/>
          </p:blipFill>
          <p:spPr>
            <a:xfrm>
              <a:off x="1636560" y="1447920"/>
              <a:ext cx="25387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8"/>
          <p:cNvSpPr/>
          <p:nvPr/>
        </p:nvSpPr>
        <p:spPr>
          <a:xfrm>
            <a:off x="4034160" y="3879720"/>
            <a:ext cx="21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nel/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3598920" y="311796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5802120" y="2203560"/>
            <a:ext cx="1743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5156280" y="1450800"/>
            <a:ext cx="2539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2"/>
          <p:cNvGrpSpPr/>
          <p:nvPr/>
        </p:nvGrpSpPr>
        <p:grpSpPr>
          <a:xfrm>
            <a:off x="6195960" y="2762280"/>
            <a:ext cx="3061440" cy="1210680"/>
            <a:chOff x="6195960" y="2762280"/>
            <a:chExt cx="3061440" cy="1210680"/>
          </a:xfrm>
        </p:grpSpPr>
        <p:sp>
          <p:nvSpPr>
            <p:cNvPr id="131" name="Rectangle 13"/>
            <p:cNvSpPr/>
            <p:nvPr/>
          </p:nvSpPr>
          <p:spPr>
            <a:xfrm>
              <a:off x="6761160" y="3609720"/>
              <a:ext cx="249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ancial 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14" descr=""/>
            <p:cNvPicPr/>
            <p:nvPr/>
          </p:nvPicPr>
          <p:blipFill>
            <a:blip r:embed="rId6"/>
            <a:stretch/>
          </p:blipFill>
          <p:spPr>
            <a:xfrm>
              <a:off x="6195960" y="2762280"/>
              <a:ext cx="25387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Rectangle 15"/>
          <p:cNvSpPr/>
          <p:nvPr/>
        </p:nvSpPr>
        <p:spPr>
          <a:xfrm>
            <a:off x="6862680" y="5099040"/>
            <a:ext cx="1705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7"/>
          <a:stretch/>
        </p:blipFill>
        <p:spPr>
          <a:xfrm>
            <a:off x="6273720" y="4260960"/>
            <a:ext cx="25401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30120" y="4184640"/>
            <a:ext cx="2617560" cy="1486080"/>
            <a:chOff x="330120" y="4184640"/>
            <a:chExt cx="2617560" cy="1486080"/>
          </a:xfrm>
        </p:grpSpPr>
        <p:sp>
          <p:nvSpPr>
            <p:cNvPr id="136" name="Rectangle 18"/>
            <p:cNvSpPr/>
            <p:nvPr/>
          </p:nvSpPr>
          <p:spPr>
            <a:xfrm>
              <a:off x="353880" y="5033160"/>
              <a:ext cx="2593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cument 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19" descr=""/>
            <p:cNvPicPr/>
            <p:nvPr/>
          </p:nvPicPr>
          <p:blipFill>
            <a:blip r:embed="rId8"/>
            <a:stretch/>
          </p:blipFill>
          <p:spPr>
            <a:xfrm>
              <a:off x="330120" y="4184640"/>
              <a:ext cx="25401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20"/>
          <p:cNvSpPr/>
          <p:nvPr/>
        </p:nvSpPr>
        <p:spPr>
          <a:xfrm>
            <a:off x="3452760" y="5556240"/>
            <a:ext cx="273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/Medi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"/>
          <p:cNvPicPr/>
          <p:nvPr/>
        </p:nvPicPr>
        <p:blipFill>
          <a:blip r:embed="rId9"/>
          <a:stretch/>
        </p:blipFill>
        <p:spPr>
          <a:xfrm>
            <a:off x="3149640" y="4718160"/>
            <a:ext cx="253980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AN02328_"/>
          <p:cNvPicPr/>
          <p:nvPr/>
        </p:nvPicPr>
        <p:blipFill>
          <a:blip r:embed="rId10"/>
          <a:stretch/>
        </p:blipFill>
        <p:spPr>
          <a:xfrm>
            <a:off x="2743200" y="373392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" descr="AN02328_"/>
          <p:cNvPicPr/>
          <p:nvPr/>
        </p:nvPicPr>
        <p:blipFill>
          <a:blip r:embed="rId11"/>
          <a:stretch/>
        </p:blipFill>
        <p:spPr>
          <a:xfrm>
            <a:off x="5334120" y="449568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1" descr="AN02328_"/>
          <p:cNvPicPr/>
          <p:nvPr/>
        </p:nvPicPr>
        <p:blipFill>
          <a:blip r:embed="rId12"/>
          <a:stretch/>
        </p:blipFill>
        <p:spPr>
          <a:xfrm>
            <a:off x="4191120" y="243828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2" descr="AN02328_"/>
          <p:cNvPicPr/>
          <p:nvPr/>
        </p:nvPicPr>
        <p:blipFill>
          <a:blip r:embed="rId13"/>
          <a:stretch/>
        </p:blipFill>
        <p:spPr>
          <a:xfrm>
            <a:off x="7924680" y="182880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3" descr="AN02328_"/>
          <p:cNvPicPr/>
          <p:nvPr/>
        </p:nvPicPr>
        <p:blipFill>
          <a:blip r:embed="rId14"/>
          <a:stretch/>
        </p:blipFill>
        <p:spPr>
          <a:xfrm>
            <a:off x="5715000" y="533412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4" descr="AN02328_"/>
          <p:cNvPicPr/>
          <p:nvPr/>
        </p:nvPicPr>
        <p:blipFill>
          <a:blip r:embed="rId15"/>
          <a:stretch/>
        </p:blipFill>
        <p:spPr>
          <a:xfrm>
            <a:off x="1905120" y="571500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AN02328_"/>
          <p:cNvPicPr/>
          <p:nvPr/>
        </p:nvPicPr>
        <p:blipFill>
          <a:blip r:embed="rId16"/>
          <a:stretch/>
        </p:blipFill>
        <p:spPr>
          <a:xfrm>
            <a:off x="609480" y="1905120"/>
            <a:ext cx="914400" cy="3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6324480" y="3801960"/>
            <a:ext cx="1067040" cy="144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5943600" y="3801960"/>
            <a:ext cx="0" cy="12193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V="1">
            <a:off x="5943600" y="2582640"/>
            <a:ext cx="14400" cy="10666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3124080" y="2278080"/>
            <a:ext cx="5040" cy="8460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886200" y="3711600"/>
            <a:ext cx="1066680" cy="144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6794640" y="4129200"/>
            <a:ext cx="73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6013440" y="4646520"/>
            <a:ext cx="0" cy="73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 flipV="1">
            <a:off x="6008760" y="2403000"/>
            <a:ext cx="9360" cy="85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078000" y="2800440"/>
            <a:ext cx="0" cy="64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3827520" y="4132440"/>
            <a:ext cx="1155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4952880" y="3116160"/>
            <a:ext cx="2033640" cy="13017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876920" y="3268800"/>
            <a:ext cx="215712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641840" y="5006880"/>
            <a:ext cx="2589120" cy="93672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767480" y="5070600"/>
            <a:ext cx="234108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quer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/>
          <p:cNvSpPr/>
          <p:nvPr/>
        </p:nvSpPr>
        <p:spPr>
          <a:xfrm>
            <a:off x="2062080" y="3090960"/>
            <a:ext cx="2586240" cy="148104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2133720" y="3228840"/>
            <a:ext cx="251460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extraction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sing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2236680" y="1446120"/>
            <a:ext cx="1971720" cy="10065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390400" y="1562040"/>
            <a:ext cx="169956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>
            <a:off x="5018040" y="1744560"/>
            <a:ext cx="1838520" cy="83844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5240520" y="1785960"/>
            <a:ext cx="139320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1459080" y="2575080"/>
            <a:ext cx="610920" cy="5410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1424160" y="3273480"/>
            <a:ext cx="582480" cy="1332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V="1">
            <a:off x="1424160" y="3809880"/>
            <a:ext cx="633240" cy="1303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V="1">
            <a:off x="1366920" y="4195440"/>
            <a:ext cx="690480" cy="3762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1424160" y="4495680"/>
            <a:ext cx="709560" cy="64296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-1440" y="1066680"/>
            <a:ext cx="178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9"/>
          <p:cNvSpPr/>
          <p:nvPr/>
        </p:nvSpPr>
        <p:spPr>
          <a:xfrm>
            <a:off x="7415280" y="3341520"/>
            <a:ext cx="1485720" cy="92556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7639200" y="3403440"/>
            <a:ext cx="115524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4571640" y="2743200"/>
            <a:ext cx="8672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380880" y="5021280"/>
            <a:ext cx="973080" cy="54144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380880" y="440388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380880" y="371808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5"/>
          <p:cNvSpPr/>
          <p:nvPr/>
        </p:nvSpPr>
        <p:spPr>
          <a:xfrm>
            <a:off x="380880" y="304020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380880" y="235440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Data Warehouse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533520" y="99072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ata warehouses in general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overall strategy, or process, for building decision support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rimary objective of bringing together information from different sources and put information into a format that facilitates  making better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the ultimate goal to inform classroom practices and impact student achie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GOR can assist you to make better data-based decision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stru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students’ strengths &amp;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nalysis for curriculum, assessment &amp;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best practic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ily analyze data from multiple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important stuff…improving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 accountability mandates (NCLB, Ed YES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efficiencies with tight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-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 Language Proficiency Assessment (ELP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LPP 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(NW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raN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ntron Achievement Se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 Reading, Math, Early Lite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Record Student Database (SRS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lastic Reading Inventory (S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Styles Inventory (L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owa Test of Basic Skills (ITB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es MacGinitie Rea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WorkK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Expl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ford Achievement Test (SAT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ced Placement Program (A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District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Gr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Management System (SMS) Student Schedule: Win School, PowerSchool, Infinite Campus, CIMS, SA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formation Database (FI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ary Sched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ry of Educational Personnel (RE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much more in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22860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ets Available to Local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3520" y="99072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620120" y="6095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948440" y="65768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08.04.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7:37:13Z</dcterms:created>
  <dc:creator>jsargent</dc:creator>
  <dc:description/>
  <dc:language>en-US</dc:language>
  <cp:lastModifiedBy>EGR</cp:lastModifiedBy>
  <dcterms:modified xsi:type="dcterms:W3CDTF">2010-02-14T23:01:01Z</dcterms:modified>
  <cp:revision>287</cp:revision>
  <dc:subject/>
  <dc:title>IGOR Presentation1022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Resource Library</vt:lpwstr>
  </property>
  <property fmtid="{D5CDD505-2E9C-101B-9397-08002B2CF9AE}" pid="3" name="Dataset">
    <vt:lpwstr/>
  </property>
  <property fmtid="{D5CDD505-2E9C-101B-9397-08002B2CF9AE}" pid="4" name="Type of Resource">
    <vt:lpwstr>IGOR Resources</vt:lpwstr>
  </property>
</Properties>
</file>